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5612-9660-45A7-AA79-345A17895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5EC3-E4F3-4EAE-9EF1-BB0599C6F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E7D5-E82F-46EE-A7E3-93686E71F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4CBD-7305-4DBD-A5B2-D9027225C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F3E5-7ADF-404D-91D3-11D2243E3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2BDC-B70D-4984-8B87-304A5BA70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2C00-210E-404E-820B-61ADE3609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093C-E810-4CA2-B24D-D20D49DF9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2B3E-862C-4495-9B87-AFE66541B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59B6-65E7-43E2-AFE9-8D7C60354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9085-4ABD-412A-B264-9B2EB6686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076B-75D7-4AFF-8914-9C08A3449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4174C-B76F-4F3B-ABE4-94E13F279A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35283597fvnSvW_ph" descr=""/>
          <p:cNvPicPr/>
          <p:nvPr/>
        </p:nvPicPr>
        <p:blipFill>
          <a:blip r:embed="rId1"/>
          <a:stretch/>
        </p:blipFill>
        <p:spPr>
          <a:xfrm>
            <a:off x="0" y="0"/>
            <a:ext cx="41148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114800" y="304920"/>
            <a:ext cx="4724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581280" y="0"/>
            <a:ext cx="5562720" cy="97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abic Transparent"/>
              </a:rPr>
              <a:t>يسوع ملكُ الملوك مجداً هللوي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abic Transparent"/>
              </a:rPr>
              <a:t>يسوع ربُّ الأرباب مجداً هللوي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abic Transparent"/>
              </a:rPr>
              <a:t>يسوع ربُّ النجاة   مجداً هللوي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abic Transparent"/>
              </a:rPr>
              <a:t>يسوع نبعُ الحياة   مجداً هللوي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abic Transparent"/>
              </a:rPr>
              <a:t> يسوع نورُ الرجاء مجداً هللوي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abic Transparent"/>
              </a:rPr>
              <a:t> يسوع دربُ السماء مجداً هللوي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000000"/>
                </a:solidFill>
                <a:latin typeface="Arabic Transparent"/>
              </a:rPr>
              <a:t> اللازمة: أميرُ السلا م</a:t>
            </a:r>
            <a:r>
              <a:rPr b="1" i="1" lang="ar-SA" sz="4400" spc="-1" strike="noStrike">
                <a:solidFill>
                  <a:srgbClr val="000000"/>
                </a:solidFill>
                <a:latin typeface="Arabic Transparent"/>
              </a:rPr>
              <a:t>	</a:t>
            </a:r>
            <a:r>
              <a:rPr b="1" i="1" lang="ar-SA" sz="4400" spc="-1" strike="noStrike">
                <a:solidFill>
                  <a:srgbClr val="000000"/>
                </a:solidFill>
                <a:latin typeface="Arabic Transparent"/>
              </a:rPr>
              <a:t>	</a:t>
            </a:r>
            <a:r>
              <a:rPr b="1" i="1" lang="ar-SA" sz="4400" spc="-1" strike="noStrike">
                <a:solidFill>
                  <a:srgbClr val="000000"/>
                </a:solidFill>
                <a:latin typeface="Arabic Transparent"/>
              </a:rPr>
              <a:t>       مجداً هللويا</a:t>
            </a:r>
            <a:r>
              <a:rPr b="1" lang="ar-SA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23T06:57:28Z</dcterms:created>
  <dc:creator>SUZANNE.MD</dc:creator>
  <dc:description/>
  <dc:language>en-US</dc:language>
  <cp:lastModifiedBy>USER</cp:lastModifiedBy>
  <dcterms:modified xsi:type="dcterms:W3CDTF">2002-12-23T20:08:24Z</dcterms:modified>
  <cp:revision>1</cp:revision>
  <dc:subject/>
  <dc:title>PowerPoint Presentation</dc:title>
</cp:coreProperties>
</file>